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BEA-FFB2-43CD-BB79-7A5C92B6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DC2-1AC0-4D68-A8F8-79BE2521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751-371B-4F77-9FE7-8AF8D259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1BC-1971-46FF-A547-31CE12AA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AF0-9801-4A5B-A8B7-6E16BDD4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3FE-AA22-46B3-ABCC-7560736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715-2B34-4FAF-8631-084EAD25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EEE-AA9C-497F-93DB-52329659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8C3-7948-4987-9B2D-8ADC67F9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658-7A9C-4233-9110-161E229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602-410E-4DC4-8F14-98352C4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E77-4F0D-456B-95DE-9C59667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C2D-70CC-415C-BB72-2A7A0AA0A65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 R&amp;D-strategy-workshop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836640"/>
          <a:ext cx="8207280" cy="3919680"/>
        </p:xfrm>
        <a:graphic>
          <a:graphicData uri="http://schemas.openxmlformats.org/drawingml/2006/table">
            <a:tbl>
              <a:tblPr/>
              <a:tblGrid>
                <a:gridCol w="1871640"/>
                <a:gridCol w="633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:00 – 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1:30 – 12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2:30 – 13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3:30 – 1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:30 – 18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8:30 – 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sage tb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519120" y="4724280"/>
            <a:ext cx="8085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During morning and afternoon working session no internet access and phone usage will be allowed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The workshop will start on Sunday afternoon with a session to get the personal expectations and a get-together to build personal relationship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onday mor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sentation of each organization by the participa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opics to address in the presentati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eople incl. education and skill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ing model and process including measur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ducts and running projects in the respective organiz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sul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onday afterno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hat has to be done to become one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ision, Miss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Goals to rea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alue of one R&amp;D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llaboration of the different organizations insid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xpectations on the others as well as on your own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overcome prejudic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duce anxiety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mor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How to …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chieve the defined targets and goal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mprove collabor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djust to new technologies and business need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njoy competi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mmunicate in the troop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mmunicate in the organiz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369720" y="461484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Tuesday after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9720" y="5311800"/>
            <a:ext cx="8305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action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14T11:49:34Z</dcterms:modified>
  <cp:revision>60</cp:revision>
  <dc:subject/>
  <dc:title>PowerPoint 簡報</dc:title>
</cp:coreProperties>
</file>